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11F-A63A-4CF9-818C-F31A1B30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F0F-BA82-48B8-8710-5291BFF7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CF6-09A2-4C2B-B0C4-6DE0B370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FA9-F3C7-4BFC-8433-424CF038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C782-A22E-4B68-A2C2-B2525CBC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9417-7B60-48B4-9FC2-FD1DC1F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A4CF-5E3B-4000-8BB6-D8A4FE9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F366-E8E4-40F6-B3AC-41D8963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A0A4-B692-469B-8F6E-E13FC1B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2719-70E4-4738-BA1A-B1DECB9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19E-0F35-47FA-A46B-A1DFBDB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BD6-656E-4D8D-9AD7-C08C94B4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071-4208-4EBB-8B2E-00B2D8C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3C60-8E9E-43F4-9238-687CCCD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CA8-EE70-4B51-84A6-912B75A3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8944-07E4-4AF6-B601-DA346173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A6F-6D17-4BEB-A7E1-971DF9CC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ADB-DFE8-47ED-BCE1-1F94DB5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BCF-A924-4471-B274-FDEAA2B6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2EB-FB96-4A14-B6AE-60A65807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69A-FFA6-4424-9B91-0040EFD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72D-E7E2-4004-8995-CA080ED6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4D2-6D20-4328-8BA2-39D50273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B52-AFDB-484E-9124-F5F9C5E7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6287-B6BC-4B3C-AF71-3B02874D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C6CA-CE29-4986-AB7E-96FB2739DD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tion is a Theory – Just like Gravit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heory in science is a well tested hypothesis, not just a gu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evolution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w did tortoises and birds differ among the islands of the Galapago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00800" y="2133720"/>
            <a:ext cx="274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island had its own type of tortoises and birds that were clearly different from other 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darwin_finches"/>
          <p:cNvPicPr/>
          <p:nvPr/>
        </p:nvPicPr>
        <p:blipFill>
          <a:blip r:embed="rId1"/>
          <a:stretch/>
        </p:blipFill>
        <p:spPr>
          <a:xfrm>
            <a:off x="0" y="1940040"/>
            <a:ext cx="63244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lapagos                      Turt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big%20turtle"/>
          <p:cNvPicPr/>
          <p:nvPr/>
        </p:nvPicPr>
        <p:blipFill>
          <a:blip r:embed="rId1"/>
          <a:stretch/>
        </p:blipFill>
        <p:spPr>
          <a:xfrm>
            <a:off x="0" y="1960560"/>
            <a:ext cx="5181480" cy="489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ome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25-35"/>
          <p:cNvPicPr/>
          <p:nvPr/>
        </p:nvPicPr>
        <p:blipFill>
          <a:blip r:embed="rId3"/>
          <a:stretch/>
        </p:blipFill>
        <p:spPr>
          <a:xfrm>
            <a:off x="5257800" y="3981600"/>
            <a:ext cx="38862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Selection and Species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time, natural selection results in changes in the inherited characteristics of a popul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changes increase a species fitness (survival 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misconceptions_beav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image009"/>
          <p:cNvPicPr/>
          <p:nvPr/>
        </p:nvPicPr>
        <p:blipFill>
          <a:blip r:embed="rId1"/>
          <a:stretch/>
        </p:blipFill>
        <p:spPr>
          <a:xfrm>
            <a:off x="4038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cent with Modifica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12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living species has descended with changes from other species over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volution is when organisms change over time. So, modern organisms descended from ancient one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9" descr="evolution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le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raits that help an organism survive in a particular environment are “selected” in 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nat-sel"/>
          <p:cNvPicPr/>
          <p:nvPr/>
        </p:nvPicPr>
        <p:blipFill>
          <a:blip r:embed="rId1"/>
          <a:stretch/>
        </p:blipFill>
        <p:spPr>
          <a:xfrm>
            <a:off x="4114800" y="1943280"/>
            <a:ext cx="5029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8:55:47Z</dcterms:created>
  <dc:creator>Defiant</dc:creator>
  <dc:description/>
  <dc:language>en-US</dc:language>
  <cp:lastModifiedBy>Daniel Ramalho</cp:lastModifiedBy>
  <dcterms:modified xsi:type="dcterms:W3CDTF">2011-11-17T02:48:57Z</dcterms:modified>
  <cp:revision>34</cp:revision>
  <dc:subject/>
  <dc:title>Chapter 15 </dc:title>
</cp:coreProperties>
</file>